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E57-70AE-492B-AC47-0149F88F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521-F908-4485-86FA-E366931B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1A2-9927-4A3A-B336-04B3AB14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EDF-064B-4BFF-BBBE-8B2DB54D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76CB-98E4-4A5E-B71B-221C5859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D6D-D8F7-415F-8EE7-76B2638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DF72-120D-4E89-B34E-AD98C50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ACE-2416-4D65-BA7C-8BBCAA2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545-9FBA-41DB-A2AC-D966CA8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D234-90EE-4306-8E69-DEB03A6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7267-5C15-4B1A-A996-D900462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FC1-AE8C-4607-81E9-197F14C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88DC-714C-44D8-8EF8-CB3B97D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9090-132D-4351-8CB1-4FA622D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04F-3A06-4B16-A3D1-77F56E4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F452-E5CB-4770-8500-1F8DB0E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E25-1FB4-4412-9E33-87DB0E53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BA5-15ED-4D9C-BFB9-22DDBCC2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706-AA61-4F0A-9873-3B8AA99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62D-0D28-4CFA-A9A1-808A7C40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260-982F-4FB1-BA7A-6CDFBAF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F64-B6D5-400D-9F47-160B754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D8C-395D-4EA0-8BD0-5D12ADF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4EF-5028-46F0-81E6-DFFFBE9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21F-1BB2-47F8-AC6B-E78B8E204D12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5A0-5E7C-43C6-8B2F-4B2AA2F713B6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100" spc="-1" strike="noStrike">
                <a:solidFill>
                  <a:srgbClr val="ffff00"/>
                </a:solidFill>
                <a:latin typeface="Arial"/>
              </a:rPr>
              <a:t>Prism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Verdana"/>
              </a:rPr>
              <a:t>Sunt corpuri geometrice determinate de două baze, care sunt poligoane congruente, situate în plane parale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cc00"/>
                </a:solidFill>
                <a:latin typeface="Arial"/>
              </a:rPr>
              <a:t>Prismele care se studiază în clasa a 8-a sunt: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aralelipipedul dreptungh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patrulater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Cub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triunghiular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hexagonal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4c3aa"/>
                </a:solidFill>
                <a:latin typeface="Arial"/>
              </a:rPr>
              <a:t>Paralelipipedul dreptunghic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Este prisma care are bazele dreptunghiur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2666880"/>
            <a:ext cx="4267080" cy="19051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276720"/>
            <a:ext cx="4495680" cy="20574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905120" y="26668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324120" y="26668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400440" y="4572000"/>
            <a:ext cx="6094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u</cp:lastModifiedBy>
  <dcterms:modified xsi:type="dcterms:W3CDTF">2011-01-13T15:12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